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78E-7847-4925-93D3-CED4BD4D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5E1-15F3-4724-A6ED-A3CD64DA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10A-C3F0-418B-986A-82DD8D38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EB3-B728-4566-A348-1FA98D7E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C4A-2E8A-46AD-9B41-2B77C12C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0ECE-D675-470E-8A0F-397387EA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E20-8170-4767-B124-6AC18BAF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E5B-97AD-44EE-832B-7CEF6C7B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6B5-7687-4A8E-B512-69DA4C2A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2BD-88F8-41DD-A3E0-47073033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50D-B21A-46A7-B9F3-22CED63F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05C-7CC1-46E9-8210-2FCA4DCB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7BAF-B845-488A-8BF2-4953B928FB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END  ASSOC                   WEST  END  ASSOC.         EDINBURGH  EX  PRESIDENTS        EX  PRESIDENTS              EX  PRESIDENTS  75TH            EDINBURGH  SECRETA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0" descr="West End Assoc 2.JPG"/>
          <p:cNvPicPr/>
          <p:nvPr/>
        </p:nvPicPr>
        <p:blipFill>
          <a:blip r:embed="rId1"/>
          <a:stretch/>
        </p:blipFill>
        <p:spPr>
          <a:xfrm>
            <a:off x="1857240" y="260280"/>
            <a:ext cx="1133640" cy="1244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1" descr="Edinburgh Ex Presidents.JPG"/>
          <p:cNvPicPr/>
          <p:nvPr/>
        </p:nvPicPr>
        <p:blipFill>
          <a:blip r:embed="rId2"/>
          <a:stretch/>
        </p:blipFill>
        <p:spPr>
          <a:xfrm>
            <a:off x="3297240" y="189000"/>
            <a:ext cx="128124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2" descr="Edinburgh Secretaries.JPG"/>
          <p:cNvPicPr/>
          <p:nvPr/>
        </p:nvPicPr>
        <p:blipFill>
          <a:blip r:embed="rId3"/>
          <a:stretch/>
        </p:blipFill>
        <p:spPr>
          <a:xfrm>
            <a:off x="7905600" y="189000"/>
            <a:ext cx="1024200" cy="128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Edinburgh Ex Pres. 75th.jpg"/>
          <p:cNvPicPr/>
          <p:nvPr/>
        </p:nvPicPr>
        <p:blipFill>
          <a:blip r:embed="rId4"/>
          <a:stretch/>
        </p:blipFill>
        <p:spPr>
          <a:xfrm>
            <a:off x="6105600" y="333360"/>
            <a:ext cx="1211040" cy="115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4" descr="Edinburgh Secretaries Millennium.JPG"/>
          <p:cNvPicPr/>
          <p:nvPr/>
        </p:nvPicPr>
        <p:blipFill>
          <a:blip r:embed="rId5"/>
          <a:stretch/>
        </p:blipFill>
        <p:spPr>
          <a:xfrm>
            <a:off x="200160" y="1916280"/>
            <a:ext cx="10602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Edinburgh Ex Pres. 2.jpg"/>
          <p:cNvPicPr/>
          <p:nvPr/>
        </p:nvPicPr>
        <p:blipFill>
          <a:blip r:embed="rId6"/>
          <a:stretch/>
        </p:blipFill>
        <p:spPr>
          <a:xfrm>
            <a:off x="4737240" y="333360"/>
            <a:ext cx="118080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West End  Assoc1.JPG"/>
          <p:cNvPicPr/>
          <p:nvPr/>
        </p:nvPicPr>
        <p:blipFill>
          <a:blip r:embed="rId7"/>
          <a:stretch/>
        </p:blipFill>
        <p:spPr>
          <a:xfrm>
            <a:off x="272880" y="333360"/>
            <a:ext cx="1170000" cy="1170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RETARIES  MILLENN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1:08:44Z</dcterms:created>
  <dc:creator>HP authorized customer</dc:creator>
  <dc:description/>
  <dc:language>en-US</dc:language>
  <cp:lastModifiedBy>John</cp:lastModifiedBy>
  <dcterms:modified xsi:type="dcterms:W3CDTF">2011-12-22T11:25:56Z</dcterms:modified>
  <cp:revision>26</cp:revision>
  <dc:subject/>
  <dc:title>Slide 1</dc:title>
</cp:coreProperties>
</file>